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766-619D-4F09-9E4F-3928B18FC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FBD1-3665-4D6C-98E5-E7A93C575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by Michael J. Renner, Ph.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lides ©2002 Prentice Hall Psychology Publi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4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4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4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9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0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me concept as demonstration on p161 of 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is here to provide a blank white field for seeing afterimages generated by staring at the previous slide for 60 seconds. Delete this slide before prin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taken from Figure 3.23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7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7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igure on p 150,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E7F-FAAE-473E-B20D-2D6E29AE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654-7470-46DA-B856-F77DECC9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B65-B8AE-41B3-97E5-E4FED0AE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7C7-EE82-431D-A90F-DB0305EA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427C-C63D-42BF-B5B7-8A614F4D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59D9-4D97-4773-B5A2-A52B0AC6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C36D-75F6-4686-9F1C-8D9A504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7A13-610F-4EAD-A58B-30D3911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B43-E71E-4EB7-B324-3B4A9C4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415-DC74-4FA8-8A49-B84BCC0F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A5D-DF13-48D7-BD61-5519F4BE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992-4460-4DAB-BD27-209AFF4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F53-D48E-47B9-BEBA-DB26F57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39A0-CE7E-42DE-BC73-9E1713B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8B6-D1DD-441E-BD8A-520796B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CE9-D7E7-4B34-B4B6-B8667D69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A864-F58E-4FDA-B7D8-2B90AD2C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60B-5FBD-4E66-B057-F47126C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B35-BDA4-4D20-9112-D862422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781-D87E-4D3B-97A2-97DC90D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C2F-935E-4F32-BB86-62C75967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89D-FD08-4880-8568-C21E1C3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DB4-1392-4D33-B0B0-9554703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1CC-0D0D-468D-8559-821AACB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F1F-61EA-42F0-8107-C50D10A84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87F-89D0-4E8D-912B-3B09B3C61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ory Adap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ory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reduction or disappearance of sensory responsiveness that occurs when stimulation is unchanging or repetit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ory Depriv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absence of normal levels of sensory stim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ory Overlo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ive Atten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focusing of attention on selected aspects of the environment and the blocking out of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ye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the Visual System is Not a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e Se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ng the Visu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e Se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visual experience specified by color names and related to the wavelength of l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u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vidness or purity of color; the dimension of visual experience related to the complexity of light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ightness and luminance; the dimension of visual experience related to the amount of light emitted from or reflected by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 Eye on the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Neural tissue lining the back of the eyeball’s interior, which contains the receptors for vis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od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Visual receptors that respond to dim ligh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Visual receptors involved in color vision. Most humans have 3 types of con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ark Adapt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The process by which visual receptors become maximally sensitive to ligh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s of the Human Ey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s of the Reti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63640" y="1674720"/>
            <a:ext cx="7442280" cy="47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sual System is Not a Camer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visual processing is done in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cortical cells respond to lines in specific orientations (e.g. horizon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ells in the cortex respond to other shapes (e.g., bulls-eyes, spirals,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ature-detec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ells in the visual cortex that are sensitive to specific features of the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e See Col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chromatic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nent Process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ichromatic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 Young (1802) &amp; H.  von Helmholtz (1852) both proposed that the eye detects 3 primary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, blue, &amp; g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colors can be derived by combining these th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7600" t="0" r="6400" b="0"/>
          <a:stretch/>
        </p:blipFill>
        <p:spPr>
          <a:xfrm>
            <a:off x="5091120" y="2057400"/>
            <a:ext cx="4052880" cy="35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ensational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ual Powers: Origins and Infl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zzles of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05520" y="2057400"/>
            <a:ext cx="342900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-Process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peting theory of color vision, which assumes that the visual system treats pairs of colors as opposing or antagonist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nent-Process cells are inhibited by a color, and have a burst of activity when it is remo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7800" y="2209680"/>
            <a:ext cx="3124080" cy="1143000"/>
            <a:chOff x="5257800" y="2209680"/>
            <a:chExt cx="3124080" cy="1143000"/>
          </a:xfrm>
        </p:grpSpPr>
        <p:sp>
          <p:nvSpPr>
            <p:cNvPr id="157" name=""/>
            <p:cNvSpPr/>
            <p:nvPr/>
          </p:nvSpPr>
          <p:spPr>
            <a:xfrm>
              <a:off x="5257800" y="2209680"/>
              <a:ext cx="1143000" cy="1143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8880" y="2209680"/>
              <a:ext cx="1143000" cy="11430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2522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57800" y="4952880"/>
            <a:ext cx="3124080" cy="1143000"/>
            <a:chOff x="5257800" y="4952880"/>
            <a:chExt cx="3124080" cy="1143000"/>
          </a:xfrm>
        </p:grpSpPr>
        <p:sp>
          <p:nvSpPr>
            <p:cNvPr id="161" name=""/>
            <p:cNvSpPr/>
            <p:nvPr/>
          </p:nvSpPr>
          <p:spPr>
            <a:xfrm>
              <a:off x="5257800" y="4952880"/>
              <a:ext cx="11430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4952880"/>
              <a:ext cx="11430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120" y="5265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57800" y="3581280"/>
            <a:ext cx="3124080" cy="1143000"/>
            <a:chOff x="5257800" y="3581280"/>
            <a:chExt cx="3124080" cy="1143000"/>
          </a:xfrm>
        </p:grpSpPr>
        <p:sp>
          <p:nvSpPr>
            <p:cNvPr id="165" name=""/>
            <p:cNvSpPr/>
            <p:nvPr/>
          </p:nvSpPr>
          <p:spPr>
            <a:xfrm>
              <a:off x="5257800" y="3581280"/>
              <a:ext cx="114300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3581280"/>
              <a:ext cx="114300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3894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fterima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205" t="3618" r="3205" b="2412"/>
          <a:stretch/>
        </p:blipFill>
        <p:spPr>
          <a:xfrm>
            <a:off x="1487520" y="1981080"/>
            <a:ext cx="6167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structing the Visual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th and Distance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Constancies: When Seeing is Belie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Illusions: When Seeing is 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stalt Princi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stalt principles describe the brain’s organization of sensory building blocks into meaningful units and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2092" t="42001" r="12821" b="0"/>
          <a:stretch/>
        </p:blipFill>
        <p:spPr>
          <a:xfrm>
            <a:off x="6858000" y="2895480"/>
            <a:ext cx="1682640" cy="185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616" t="0" r="60105" b="60002"/>
          <a:stretch/>
        </p:blipFill>
        <p:spPr>
          <a:xfrm>
            <a:off x="5105520" y="3327480"/>
            <a:ext cx="1614240" cy="142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56098" t="0" r="17364" b="60002"/>
          <a:stretch/>
        </p:blipFill>
        <p:spPr>
          <a:xfrm>
            <a:off x="5303880" y="4851360"/>
            <a:ext cx="1415880" cy="1427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rcRect l="9616" t="44005" r="49416" b="6000"/>
          <a:stretch/>
        </p:blipFill>
        <p:spPr>
          <a:xfrm>
            <a:off x="6858000" y="4851360"/>
            <a:ext cx="1955880" cy="1595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257800" y="335268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9718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8769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8769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pth and Distance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ocular C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sual cues to depth or distance that require the use of both ey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g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Turning inward of the eyes, which occurs when they focus on a nearby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inal Dispa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The slight difference in lateral separation between two objects as seen by the left eye and the right e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ocular C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sual cues to depth or distance that can be used by one eye al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ual Constanc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ccurate perception of objects as stable or unchanged despite changes in the sensory patterns they produ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e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ness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ual Il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ions are valuable in understanding perception because they are systematic err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sions provide hints about perceptu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Muller-Lyer illusion (above) we tend to perceive the line on the right as slightly longer than the one on the le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9420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oling the Ey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s in (a) are the sam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agonal lines in (b) are parall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create a “floating fingertip frankfurter” by holding hands as shown, 5-10” in front of 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ear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H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r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ng the Auditory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etection of physical energy emitted or reflected by physical objects; it occurs when energy in the external environment or the body stimulates receptors in the sense org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process by which the brain organizes and interprets sensory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e Hea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ud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auditory experience related to the intensity of a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auditory experience related to the frequency of a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mb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ronounced “TAM-bur”): The distinguishing quality of sound; the dimension of auditory experience related to the complexity of the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 Ear on the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79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: Savory Sens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ell: The Sense of Sc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s of the 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ystery of P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vironment 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ste: Savory Sens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illa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Knoblike elevations on the tongue, containing the taste buds (Singular: papill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ste bu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sts of taste-receptor c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1084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ell: The Sense of Sc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631120" cy="2614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borne chemical molecules enter the nose and circulate through the nasal ca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pors can also enter through the mouth and pass into nasal ca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ptors on the roof of the nasal cavity detect these molec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ate-Control Theory of P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 of pain depends (in part) on whether the pain impulse gets past neurological “gate” in the spinal cord and thus reaches the b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2440080"/>
            <a:ext cx="380988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matrix Theory of P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ry that the matrix of neurons in the brain is capable of generating pain (and other sensations) in the absence of signals from sensory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2336760"/>
            <a:ext cx="3809880" cy="340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nvironment With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s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sense of body position and movement of body parts; also called kinesthe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sense of bal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ircular Cana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ense organs in the inner ear, which contribute to equilibrium by responding to rotation of the h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rceptual Powers: Origins and Influ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Abilities and Perceptual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ological and Cultural Influences on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sual Cliff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by Eleanor Gibson and Richard Walk to test depth 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ss surface, with checkerboard underneath at different he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 illusion of a cli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by can’t f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m stands across the g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ies show increased attention over deep side at age 2 months, but aren’t afraid until about the age they can craw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600" t="0" r="1600" b="0"/>
          <a:stretch/>
        </p:blipFill>
        <p:spPr>
          <a:xfrm>
            <a:off x="5137200" y="2514600"/>
            <a:ext cx="394164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mbiguous Fig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ed surface can be either the outside front surface or the inside back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not simultaneously be b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 can interpret the ambiguous cues two different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2133720"/>
            <a:ext cx="2742840" cy="3123720"/>
            <a:chOff x="5410080" y="2133720"/>
            <a:chExt cx="2742840" cy="3123720"/>
          </a:xfrm>
        </p:grpSpPr>
        <p:sp>
          <p:nvSpPr>
            <p:cNvPr id="116" name=""/>
            <p:cNvSpPr/>
            <p:nvPr/>
          </p:nvSpPr>
          <p:spPr>
            <a:xfrm>
              <a:off x="5410080" y="2891160"/>
              <a:ext cx="2286000" cy="2366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2133720"/>
              <a:ext cx="2285640" cy="236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410080" y="4500360"/>
              <a:ext cx="457200" cy="7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410080" y="2133720"/>
              <a:ext cx="457200" cy="7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695720" y="2133720"/>
              <a:ext cx="456840" cy="7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95720" y="4500360"/>
              <a:ext cx="456840" cy="7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ychological and Cultural Influences on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tual S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A habitual way of perceiving, based on expect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zzles of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liminal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sensory Perception: Reality or Illus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rasensory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24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sensory Perception (ESP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to perceive something without ordinary sensory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as not been scientifically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types of ES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pathy – Mind-to-mind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rvoyance – Perception of remot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ognition – Ability to see futur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spcBef>
                <a:spcPts val="876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r Sensational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iddle of Separate Sens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the S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Adap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Over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iddle of Separate Sens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e Recep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pecialized neurons that convert physical energy from the environment or the body into electrical energy that can be transmitted as nerve impulses to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ctrine of Specific Nerve Energ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ifferent sensory modalities exist because signals received by the sense organs stimulate different nerve pathways leading to different areas of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ing the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lut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quantity of physical energy that can be reliably detected by an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difference in stimulation that can be reliably detected by an observer when two stimuli are compared; also called Just Noticeable Difference (JN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solute Sensory Threshol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on: A single candle flame from 30 miles on a dark, clea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ing: The tick of a watch from 20 feet in total 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ell: 1 drop of perfume in a 3-room apar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: The wing of a bee on your cheek, dropped from 1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: 1 tsp. Sugar in 2 gal.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gnal Detection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981080"/>
          <a:ext cx="7772400" cy="3794400"/>
        </p:xfrm>
        <a:graphic>
          <a:graphicData uri="http://schemas.openxmlformats.org/drawingml/2006/table">
            <a:tbl>
              <a:tblPr/>
              <a:tblGrid>
                <a:gridCol w="1752480"/>
                <a:gridCol w="2971800"/>
                <a:gridCol w="30481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imulus is 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imulus is 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nse: “Presen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i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alse Alarm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nse: “Absen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is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Correct Reje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6:04:01Z</dcterms:created>
  <dc:creator>Michael J. Renner</dc:creator>
  <dc:description/>
  <dc:language>en-US</dc:language>
  <cp:lastModifiedBy>jwitt</cp:lastModifiedBy>
  <dcterms:modified xsi:type="dcterms:W3CDTF">2003-11-03T21:01:06Z</dcterms:modified>
  <cp:revision>23</cp:revision>
  <dc:subject/>
  <dc:title>Sensation and Perception</dc:title>
</cp:coreProperties>
</file>